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HORN6.WAV" ContentType="audio/x-wav"/>
  <Override PartName="/ppt/media/image20.png" ContentType="image/png"/>
  <Override PartName="/ppt/media/image6.jpeg" ContentType="image/jpeg"/>
  <Override PartName="/ppt/media/image5.jpeg" ContentType="image/jpe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chimes.wav" ContentType="audio/x-wav"/>
  <Override PartName="/ppt/media/image16.jpeg" ContentType="image/jpeg"/>
  <Override PartName="/ppt/media/image14.wmf" ContentType="image/x-wmf"/>
  <Override PartName="/ppt/media/image3.jpeg" ContentType="image/jpeg"/>
  <Override PartName="/ppt/media/image15.png" ContentType="image/png"/>
  <Override PartName="/ppt/media/image1.jpeg" ContentType="image/jpeg"/>
  <Override PartName="/ppt/media/image2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AD71-6CBA-4766-8128-B7A520140D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25601"/>
          <p:cNvSpPr/>
          <p:nvPr/>
        </p:nvSpPr>
        <p:spPr>
          <a:xfrm>
            <a:off x="38847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B14E-208F-42F9-9982-3EC305B83F2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0E7-E033-472C-A7B7-EB82D6B4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5B0-8769-4B3A-9BDD-E3F8EEAC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B98-47F2-42A6-9715-B10DC1DB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0D20-F945-4A1C-83FE-A133133F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2F47-7CA0-4102-9B0F-BE1AB3D6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67AD-DD61-430B-8F81-683236FF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804-E583-46CE-8D86-BB6A117B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4F6-B903-4120-A4E4-68B1F4EF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41F-C6D7-4205-ABCA-CEAB83B4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13F9-473E-49DD-98EF-3AB8FBBD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191D-95C9-47D3-859B-BF11202A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1E5C-1289-4B69-88E7-0F9D766C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30FF-2E8C-4C45-8FA0-D0209A388F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4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ORN6.WAV"/><Relationship Id="rId2" Type="http://schemas.openxmlformats.org/officeDocument/2006/relationships/audio" Target="../media/HORN6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35280" y="475920"/>
            <a:ext cx="669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五里”与“无礼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430380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一个年轻人要去张村，可他不认识去张村的路。半路上遇见一位老人，年轻人喊道：“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!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老头儿，这离张村有多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?”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老人脱口而出：“无礼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!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年轻人足足走了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里的路程，一直没见到有叫张村的地方。年轻人停下来想了又想，似乎悟出了什么。他悟出了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365760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9907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国通用电器公司的总部底层的大花园中，销售部经理带者孩子休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孩子边吃边扔，旁边有一位老者跟着她们母子拣地上孩子仍下的垃圾，母亲拉者孩子的手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不好好学习，长大后就像他一样做清洁工”。老人在旁默不作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3526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午，公司召开全体中层干部会议，女经理匆匆赶往会议室，推门进入，发现坐在主席台的却是上午的那位老者（他就是总裁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5334120"/>
            <a:ext cx="654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请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接下来会发生什么事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22860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非礼的代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010280" y="4773600"/>
            <a:ext cx="197352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0" y="0"/>
          <a:ext cx="9144000" cy="68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5"/>
          <p:cNvSpPr/>
          <p:nvPr/>
        </p:nvSpPr>
        <p:spPr>
          <a:xfrm>
            <a:off x="2057400" y="1143000"/>
            <a:ext cx="59436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无礼的害处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利于我们形成高尚的道德品质和树立高尚的理想情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会对他人造成伤害，妨害我们与人交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会直接影响到人际关系的质量和社会风气的好坏，影响到国家和民族的尊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新加坡是一个通用英语的国家，这个国家的公共场所的各种标语大多是用英语书写。但其中的一些涉及文明礼貌的标语，如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“不准随地吐痰”、“禁止吸烟”、“不准进入草坪”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等却用中文书写。为什么呢？人家回答：因为有这些不文明行为的人，大多数是中国大陆的游客。为此，到新加坡考察的一位中学校长语重心长地说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不文明行为也是国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请保持安静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垃圾桶在此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请便后冲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4577" descr=""/>
          <p:cNvPicPr/>
          <p:nvPr/>
        </p:nvPicPr>
        <p:blipFill>
          <a:blip r:embed="rId1"/>
          <a:stretch/>
        </p:blipFill>
        <p:spPr>
          <a:xfrm>
            <a:off x="755640" y="396720"/>
            <a:ext cx="6632640" cy="8352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4578" descr="请便后冲水"/>
          <p:cNvPicPr/>
          <p:nvPr/>
        </p:nvPicPr>
        <p:blipFill>
          <a:blip r:embed="rId2"/>
          <a:stretch/>
        </p:blipFill>
        <p:spPr>
          <a:xfrm>
            <a:off x="6084720" y="1484280"/>
            <a:ext cx="2880000" cy="2376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7" name="图片 24579" descr="垃圾桶在此"/>
          <p:cNvPicPr/>
          <p:nvPr/>
        </p:nvPicPr>
        <p:blipFill>
          <a:blip r:embed="rId3"/>
          <a:stretch/>
        </p:blipFill>
        <p:spPr>
          <a:xfrm>
            <a:off x="3203640" y="1484280"/>
            <a:ext cx="2700360" cy="2376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8" name="图片 24580" descr="请保持安静"/>
          <p:cNvPicPr/>
          <p:nvPr/>
        </p:nvPicPr>
        <p:blipFill>
          <a:blip r:embed="rId4"/>
          <a:stretch/>
        </p:blipFill>
        <p:spPr>
          <a:xfrm>
            <a:off x="179280" y="1484280"/>
            <a:ext cx="2772000" cy="2376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99" name="文本框 24581"/>
          <p:cNvSpPr/>
          <p:nvPr/>
        </p:nvSpPr>
        <p:spPr>
          <a:xfrm>
            <a:off x="324000" y="4005360"/>
            <a:ext cx="8497800" cy="1068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多么刺眼的劝告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要以为是这些国家歧视中国人，而确实是我们自己的行为换来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4582"/>
          <p:cNvSpPr/>
          <p:nvPr/>
        </p:nvSpPr>
        <p:spPr>
          <a:xfrm>
            <a:off x="539640" y="5157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★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作为一个中国人，你受伤了吗？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你受伤的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24583"/>
          <p:cNvSpPr/>
          <p:nvPr/>
        </p:nvSpPr>
        <p:spPr>
          <a:xfrm>
            <a:off x="5148360" y="5877000"/>
            <a:ext cx="2592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民族自尊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90720" y="914400"/>
            <a:ext cx="71625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凡人之所以贵于禽兽者，以有礼也。”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                  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《晏子春秋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大意是说，人之所以比禽兽尊贵，就在于人知道礼貌。礼貌是人区别于动物的重要标志之一，礼貌是文明的体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教室十大礼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820000" cy="496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最后离开教室的同学应关窗、关灯、关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看到废纸应捡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向表现出色的人表示祝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教室走道拥挤时让同学先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尊重其他同学的评论、观点和想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来自外地的老师、同学面前应讲普通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同学发言时应安静聆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课前准备要安静，动作要迅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上课同学答题时，适当地鼓励加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课堂有问题先举手，不随便打断老师思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7"/>
          <p:cNvSpPr/>
          <p:nvPr/>
        </p:nvSpPr>
        <p:spPr>
          <a:xfrm>
            <a:off x="611280" y="170028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0" y="380880"/>
            <a:ext cx="9144000" cy="2557440"/>
          </a:xfrm>
          <a:prstGeom prst="rect">
            <a:avLst/>
          </a:prstGeom>
          <a:noFill/>
          <a:ln w="324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礼貌和礼仪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个人素质的最直接的外现形式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是交往的最前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言谈举止彬彬有礼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我们赢得别人尊重的前提，也是成功交往的条件之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礼貌待人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人际交往最起码的要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4800600"/>
            <a:ext cx="5943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黑体"/>
              </a:rPr>
              <a:t>礼貌显魅力</a:t>
            </a:r>
            <a:endParaRPr b="1" lang="en-US" sz="4800" spc="1" strike="noStrike">
              <a:ln w="12600">
                <a:solidFill>
                  <a:srgbClr val="ffff99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校园十大礼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11280" y="1341360"/>
            <a:ext cx="8281800" cy="504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国歌要唱得响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遇到老师要问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课时，不要在走廊上喧闹，追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说粗话，不漫骂他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完厕所后冲厕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要在校园内骑车载人，并且进出校门要下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要随地乱扔垃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要在树木上，墙上，课桌上等地方乱刻乱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待校工要有礼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图书馆保持安静整洁，并且借完书后应及时归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581280" y="3858480"/>
            <a:ext cx="556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这个客人为什么感到惭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他错怪了服务员，而服务员仍然保持礼貌的语言和良好的服务，正是服务员的微笑使他惭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服务员的微笑服务给我们什么启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礼貌具有无限魅力，会增加交往的和谐性，往往能够化解矛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对人有礼貌表现在哪些方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主要表现在语言、态度和行为等方面。语言文明、态度亲和、举止端庄是与人友好交往必备的素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4572000" cy="764280"/>
          </a:xfrm>
          <a:prstGeom prst="rect">
            <a:avLst/>
          </a:prstGeom>
          <a:solidFill>
            <a:srgbClr val="ffff00"/>
          </a:solidFill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99"/>
                </a:solidFill>
                <a:latin typeface="Arial"/>
                <a:ea typeface="黑体"/>
              </a:rPr>
              <a:t>二、谢谢的魅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3311640" cy="558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380880"/>
            <a:ext cx="6248520" cy="642600"/>
          </a:xfrm>
          <a:prstGeom prst="rect">
            <a:avLst/>
          </a:prstGeom>
          <a:solidFill>
            <a:srgbClr val="ffff00"/>
          </a:solidFill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、对人礼貌的主要表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15238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对人有礼貌，主要表现在语言、态度和行为等方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200400"/>
            <a:ext cx="6934320" cy="642600"/>
          </a:xfrm>
          <a:prstGeom prst="rect">
            <a:avLst/>
          </a:prstGeom>
          <a:solidFill>
            <a:srgbClr val="ffff00"/>
          </a:solidFill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2</a:t>
            </a:r>
            <a:r>
              <a:rPr b="1" i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、与人友好交往必备的素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444816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语言文明、态度亲和、举止端庄是与人交往必备的素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马：哎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同志劳驾，我跟您打听点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马：您给我请出来，我跟他见见面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谢谢您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马：你看看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抱歉、对不起、谢谢、您、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马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长的比武大郎高一点，脑袋跟茶盘子是的，听说是个说相声的。叫什么名字，大伙叫唐稀松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马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事呀，没事能找你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23623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2286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多用商量的语气说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33526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与人交谈时要谦逊、尊重对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57913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6095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说话不和气，强词夺理，恶语伤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487692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4800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谈吐不文雅，说粗话脏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-71280"/>
            <a:ext cx="6324480" cy="11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宋体"/>
              </a:rPr>
              <a:t>《讲礼貌》 马季、唐杰忠 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0" y="457200"/>
            <a:ext cx="22860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相声欣赏</a:t>
            </a:r>
            <a:endParaRPr b="1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303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）语言文明的要求及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4074120"/>
            <a:ext cx="822960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说话和气，不强词夺理，不恶语伤人；谈吐文雅，不说粗话脏语；与人交谈时，要谦逊、尊重对方，多用商量的口吻说话，不要盛气凌人，也不要说大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文明用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语能使交往和谐，为人际关系增色。一声得体的“谢谢”，能让人感到暖意融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064520"/>
            <a:ext cx="78487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心理效应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良言一句三冬暖，恶语伤人六月寒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371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心扉如同门户，小小的钥匙便可打开它，别忘了钥匙有这两把——“谢谢”和“劳驾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28954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这句名言说明，打开别人的心扉，拉进与他人的距离，并非什么难事，一声得体的“谢谢”，一句真诚的“劳驾”，就是最有效的方法。文明用语能够使交往和谐，为人关系增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79280" y="1954080"/>
          <a:ext cx="8713440" cy="4282920"/>
        </p:xfrm>
        <a:graphic>
          <a:graphicData uri="http://schemas.openxmlformats.org/drawingml/2006/table">
            <a:tbl>
              <a:tblPr/>
              <a:tblGrid>
                <a:gridCol w="3076560"/>
                <a:gridCol w="5636880"/>
              </a:tblGrid>
              <a:tr h="107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见面语的表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如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感谢语的表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如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道歉语的表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如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告别语的表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如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 txBox="1"/>
          <p:nvPr/>
        </p:nvSpPr>
        <p:spPr>
          <a:xfrm>
            <a:off x="468360" y="620640"/>
            <a:ext cx="5398920" cy="9367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礼貌用语大搜索：</a:t>
            </a:r>
            <a:endParaRPr b="1" lang="en-US" sz="1800" spc="1" strike="noStrike">
              <a:ln w="12600">
                <a:solidFill>
                  <a:srgbClr val="ffff99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3" name=""/>
          <p:cNvSpPr/>
          <p:nvPr/>
        </p:nvSpPr>
        <p:spPr>
          <a:xfrm>
            <a:off x="3959280" y="1989000"/>
            <a:ext cx="50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早上好、下午好、您好、很高兴认识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请多指教、请多关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24360" y="3048120"/>
            <a:ext cx="507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谢谢、劳驾了、让您费心了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实在过意不去、拜托了、麻烦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68720" y="409248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对不起、请原谅、很抱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请多包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68720" y="513072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再见、欢迎再来、祝您一路顺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请再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34817"/>
          <p:cNvSpPr/>
          <p:nvPr/>
        </p:nvSpPr>
        <p:spPr>
          <a:xfrm>
            <a:off x="108000" y="1413000"/>
            <a:ext cx="8748720" cy="5184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34818"/>
          <p:cNvSpPr/>
          <p:nvPr/>
        </p:nvSpPr>
        <p:spPr>
          <a:xfrm>
            <a:off x="179280" y="187200"/>
            <a:ext cx="871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文明用语连连看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34819"/>
          <p:cNvSpPr/>
          <p:nvPr/>
        </p:nvSpPr>
        <p:spPr>
          <a:xfrm>
            <a:off x="179280" y="1496880"/>
            <a:ext cx="19432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初次见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客人到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探望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中途先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请人批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请人帮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麻烦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34820"/>
          <p:cNvSpPr/>
          <p:nvPr/>
        </p:nvSpPr>
        <p:spPr>
          <a:xfrm>
            <a:off x="4572000" y="1496880"/>
            <a:ext cx="21589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许久不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等待客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起身作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请人别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请人指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托人办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求人谅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4821"/>
          <p:cNvSpPr/>
          <p:nvPr/>
        </p:nvSpPr>
        <p:spPr>
          <a:xfrm>
            <a:off x="3132000" y="1496880"/>
            <a:ext cx="1368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黑体"/>
              </a:rPr>
              <a:t>劳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黑体"/>
              </a:rPr>
              <a:t>久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黑体"/>
              </a:rPr>
              <a:t>失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黑体"/>
              </a:rPr>
              <a:t>指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黑体"/>
              </a:rPr>
              <a:t>打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黑体"/>
              </a:rPr>
              <a:t>光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黑体"/>
              </a:rPr>
              <a:t>拜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34822"/>
          <p:cNvSpPr/>
          <p:nvPr/>
        </p:nvSpPr>
        <p:spPr>
          <a:xfrm>
            <a:off x="7558200" y="1493640"/>
            <a:ext cx="1261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黑体"/>
              </a:rPr>
              <a:t>拜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黑体"/>
              </a:rPr>
              <a:t>告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黑体"/>
              </a:rPr>
              <a:t>包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黑体"/>
              </a:rPr>
              <a:t>久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黑体"/>
              </a:rPr>
              <a:t>恭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黑体"/>
              </a:rPr>
              <a:t>赐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黑体"/>
              </a:rPr>
              <a:t>留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08000" y="1989000"/>
            <a:ext cx="1295640" cy="648000"/>
            <a:chOff x="1908000" y="1989000"/>
            <a:chExt cx="1295640" cy="648000"/>
          </a:xfrm>
        </p:grpSpPr>
        <p:sp>
          <p:nvSpPr>
            <p:cNvPr id="144" name="直接连接符 34823"/>
            <p:cNvSpPr/>
            <p:nvPr/>
          </p:nvSpPr>
          <p:spPr>
            <a:xfrm>
              <a:off x="1908000" y="1989000"/>
              <a:ext cx="1295640" cy="648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1908000" y="1989000"/>
              <a:ext cx="1295640" cy="6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908000" y="2708280"/>
            <a:ext cx="1368720" cy="2808360"/>
            <a:chOff x="1908000" y="2708280"/>
            <a:chExt cx="1368720" cy="2808360"/>
          </a:xfrm>
        </p:grpSpPr>
        <p:sp>
          <p:nvSpPr>
            <p:cNvPr id="147" name="直接连接符 34824"/>
            <p:cNvSpPr/>
            <p:nvPr/>
          </p:nvSpPr>
          <p:spPr>
            <a:xfrm>
              <a:off x="1908000" y="2708280"/>
              <a:ext cx="1368720" cy="2808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1908000" y="2708280"/>
              <a:ext cx="1368720" cy="280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692360" y="3357720"/>
            <a:ext cx="1439640" cy="2950920"/>
            <a:chOff x="1692360" y="3357720"/>
            <a:chExt cx="1439640" cy="2950920"/>
          </a:xfrm>
        </p:grpSpPr>
        <p:sp>
          <p:nvSpPr>
            <p:cNvPr id="150" name="直接连接符 34825"/>
            <p:cNvSpPr/>
            <p:nvPr/>
          </p:nvSpPr>
          <p:spPr>
            <a:xfrm>
              <a:off x="1692360" y="3357720"/>
              <a:ext cx="1439640" cy="2950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1692360" y="3357720"/>
              <a:ext cx="1439640" cy="29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908000" y="3428640"/>
            <a:ext cx="1224000" cy="647640"/>
            <a:chOff x="1908000" y="3428640"/>
            <a:chExt cx="1224000" cy="647640"/>
          </a:xfrm>
        </p:grpSpPr>
        <p:sp>
          <p:nvSpPr>
            <p:cNvPr id="153" name="直接连接符 34826"/>
            <p:cNvSpPr/>
            <p:nvPr/>
          </p:nvSpPr>
          <p:spPr>
            <a:xfrm flipV="1">
              <a:off x="1908000" y="3428640"/>
              <a:ext cx="122400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 rot="10800000">
              <a:off x="1908000" y="3428640"/>
              <a:ext cx="1224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907640" y="4149360"/>
            <a:ext cx="1296000" cy="647640"/>
            <a:chOff x="1907640" y="4149360"/>
            <a:chExt cx="1296000" cy="647640"/>
          </a:xfrm>
        </p:grpSpPr>
        <p:sp>
          <p:nvSpPr>
            <p:cNvPr id="156" name="直接连接符 34827"/>
            <p:cNvSpPr/>
            <p:nvPr/>
          </p:nvSpPr>
          <p:spPr>
            <a:xfrm flipV="1">
              <a:off x="1908000" y="4149360"/>
              <a:ext cx="129564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 rot="10800000">
              <a:off x="1907640" y="4149360"/>
              <a:ext cx="12956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907640" y="1916280"/>
            <a:ext cx="1296000" cy="3673440"/>
            <a:chOff x="1907640" y="1916280"/>
            <a:chExt cx="1296000" cy="3673440"/>
          </a:xfrm>
        </p:grpSpPr>
        <p:sp>
          <p:nvSpPr>
            <p:cNvPr id="159" name="直接连接符 34828"/>
            <p:cNvSpPr/>
            <p:nvPr/>
          </p:nvSpPr>
          <p:spPr>
            <a:xfrm flipV="1">
              <a:off x="1908000" y="1916280"/>
              <a:ext cx="1295640" cy="367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 rot="10800000">
              <a:off x="1907640" y="1916280"/>
              <a:ext cx="1295640" cy="367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979640" y="4868640"/>
            <a:ext cx="1224000" cy="1439640"/>
            <a:chOff x="1979640" y="4868640"/>
            <a:chExt cx="1224000" cy="1439640"/>
          </a:xfrm>
        </p:grpSpPr>
        <p:sp>
          <p:nvSpPr>
            <p:cNvPr id="162" name="直接连接符 34829"/>
            <p:cNvSpPr/>
            <p:nvPr/>
          </p:nvSpPr>
          <p:spPr>
            <a:xfrm flipV="1">
              <a:off x="1979640" y="4868640"/>
              <a:ext cx="1224000" cy="1439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 rot="10800000">
              <a:off x="1979640" y="4868640"/>
              <a:ext cx="1224000" cy="143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372360" y="1989000"/>
            <a:ext cx="1295280" cy="2087640"/>
            <a:chOff x="6372360" y="1989000"/>
            <a:chExt cx="1295280" cy="2087640"/>
          </a:xfrm>
        </p:grpSpPr>
        <p:sp>
          <p:nvSpPr>
            <p:cNvPr id="165" name="直接连接符 34830"/>
            <p:cNvSpPr/>
            <p:nvPr/>
          </p:nvSpPr>
          <p:spPr>
            <a:xfrm>
              <a:off x="6372360" y="1989000"/>
              <a:ext cx="1295280" cy="208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372360" y="1989000"/>
              <a:ext cx="1295280" cy="208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227640" y="2708280"/>
            <a:ext cx="1368720" cy="2087640"/>
            <a:chOff x="6227640" y="2708280"/>
            <a:chExt cx="1368720" cy="2087640"/>
          </a:xfrm>
        </p:grpSpPr>
        <p:sp>
          <p:nvSpPr>
            <p:cNvPr id="168" name="直接连接符 34831"/>
            <p:cNvSpPr/>
            <p:nvPr/>
          </p:nvSpPr>
          <p:spPr>
            <a:xfrm>
              <a:off x="6227640" y="2708280"/>
              <a:ext cx="1368720" cy="208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6227640" y="2708280"/>
              <a:ext cx="1368720" cy="208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300360" y="2637000"/>
            <a:ext cx="1296000" cy="720720"/>
            <a:chOff x="6300360" y="2637000"/>
            <a:chExt cx="1296000" cy="720720"/>
          </a:xfrm>
        </p:grpSpPr>
        <p:sp>
          <p:nvSpPr>
            <p:cNvPr id="171" name="直接连接符 34832"/>
            <p:cNvSpPr/>
            <p:nvPr/>
          </p:nvSpPr>
          <p:spPr>
            <a:xfrm flipV="1">
              <a:off x="6300720" y="2637000"/>
              <a:ext cx="1295640" cy="72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 rot="10800000">
              <a:off x="6300360" y="2637000"/>
              <a:ext cx="129564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300720" y="4005360"/>
            <a:ext cx="1366920" cy="2232000"/>
            <a:chOff x="6300720" y="4005360"/>
            <a:chExt cx="1366920" cy="2232000"/>
          </a:xfrm>
        </p:grpSpPr>
        <p:sp>
          <p:nvSpPr>
            <p:cNvPr id="174" name="直接连接符 34833"/>
            <p:cNvSpPr/>
            <p:nvPr/>
          </p:nvSpPr>
          <p:spPr>
            <a:xfrm>
              <a:off x="6300720" y="4005360"/>
              <a:ext cx="1366920" cy="22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6300720" y="4005360"/>
              <a:ext cx="1366920" cy="22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300720" y="4869000"/>
            <a:ext cx="1295640" cy="576000"/>
            <a:chOff x="6300720" y="4869000"/>
            <a:chExt cx="1295640" cy="576000"/>
          </a:xfrm>
        </p:grpSpPr>
        <p:sp>
          <p:nvSpPr>
            <p:cNvPr id="177" name="直接连接符 34834"/>
            <p:cNvSpPr/>
            <p:nvPr/>
          </p:nvSpPr>
          <p:spPr>
            <a:xfrm>
              <a:off x="6300720" y="4869000"/>
              <a:ext cx="1295640" cy="57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300720" y="4869000"/>
              <a:ext cx="1295640" cy="57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298920" y="1988640"/>
            <a:ext cx="1368720" cy="3527640"/>
            <a:chOff x="6298920" y="1988640"/>
            <a:chExt cx="1368720" cy="3527640"/>
          </a:xfrm>
        </p:grpSpPr>
        <p:sp>
          <p:nvSpPr>
            <p:cNvPr id="180" name="直接连接符 34835"/>
            <p:cNvSpPr/>
            <p:nvPr/>
          </p:nvSpPr>
          <p:spPr>
            <a:xfrm flipV="1">
              <a:off x="6299280" y="1988640"/>
              <a:ext cx="1368360" cy="352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 rot="10800000">
              <a:off x="6298920" y="1988640"/>
              <a:ext cx="1368360" cy="352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443280" y="3428640"/>
            <a:ext cx="1151280" cy="2879640"/>
            <a:chOff x="6443280" y="3428640"/>
            <a:chExt cx="1151280" cy="2879640"/>
          </a:xfrm>
        </p:grpSpPr>
        <p:sp>
          <p:nvSpPr>
            <p:cNvPr id="183" name="直接连接符 34836"/>
            <p:cNvSpPr/>
            <p:nvPr/>
          </p:nvSpPr>
          <p:spPr>
            <a:xfrm flipV="1">
              <a:off x="6443640" y="3428640"/>
              <a:ext cx="1150920" cy="2879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 rot="10800000">
              <a:off x="6443280" y="3428640"/>
              <a:ext cx="1150920" cy="28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990720"/>
            <a:ext cx="761976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态度真诚、待人和气，谦恭、和气的态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能使我们增添交往的魅力，也是文明礼貌的重要内容； 会给对方一种亲切感、受尊重感，会拉近彼此之间的距离；会增进人们的友谊和团结，使我们感到温暖、愉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303120"/>
            <a:ext cx="76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）态度亲和的要求和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06200" y="376200"/>
            <a:ext cx="198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谢谢”的魅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6000" y="3068640"/>
            <a:ext cx="8820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66ff"/>
                </a:solidFill>
                <a:latin typeface="Arial"/>
                <a:ea typeface="黑体"/>
              </a:rPr>
              <a:t>○</a:t>
            </a:r>
            <a:r>
              <a:rPr b="0" lang="zh-CN" sz="2600" spc="-1" strike="noStrike">
                <a:solidFill>
                  <a:srgbClr val="0066ff"/>
                </a:solidFill>
                <a:latin typeface="Arial"/>
                <a:ea typeface="黑体"/>
              </a:rPr>
              <a:t>你受过别人的冷遇吗？如果有，把当时的感受说出来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4360" y="2309400"/>
            <a:ext cx="882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　　我会感受到一种亲切感、受尊重感，会拉近彼此之间的距离，我自然也会以同样的方式回应对方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6000" y="4401720"/>
            <a:ext cx="882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　　有。我会觉得很没面子，自己的自尊没有得到满足，内心会感到很悲哀、自卑。有时我会自我检讨，到底我在哪里做错了呢？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3240" y="1500120"/>
            <a:ext cx="4222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66ff"/>
                </a:solidFill>
                <a:latin typeface="Arial"/>
                <a:ea typeface="黑体"/>
              </a:rPr>
              <a:t>○</a:t>
            </a:r>
            <a:r>
              <a:rPr b="0" lang="zh-CN" sz="2600" spc="-1" strike="noStrike">
                <a:solidFill>
                  <a:srgbClr val="0066ff"/>
                </a:solidFill>
                <a:latin typeface="Arial"/>
                <a:ea typeface="黑体"/>
              </a:rPr>
              <a:t>当别人热情地对待你时，你的感受是什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2678040" cy="2008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19920" y="0"/>
            <a:ext cx="2651040" cy="1987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429000" y="0"/>
            <a:ext cx="2403360" cy="1981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8080" y="5179680"/>
            <a:ext cx="87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、甲乙的行为分别给自己带来什么后果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18720" y="25138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甲有礼貌，而乙不懂礼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35744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甲有教养，自己受到尊重，心情愉悦；乙没有教养，自己不被尊重，厌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60339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甲顺利实现了自己的目的，得到尊重；乙因为不懂礼貌，在交往中遭受挫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0556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、甲乙两个学生的行为有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53340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、甲乙的不同行为分别给交往对象（售货员）什么感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066680" y="1198440"/>
            <a:ext cx="746460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111111"/>
                </a:solidFill>
                <a:latin typeface="Times New Roman"/>
                <a:ea typeface="黑体"/>
              </a:rPr>
              <a:t>内在真心诚意、外在彬彬有礼，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黑体"/>
              </a:rPr>
              <a:t>容貌清洁、服装整洁、美观大方，举止规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我们高雅的气质，反映我们的道德素养和文明程度；我们就能广受欢迎、广交朋友；是我们进行社会交往的基本要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3024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）举止端庄的要求和作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304040" y="2602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相关链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95" name=""/>
          <p:cNvSpPr/>
          <p:nvPr/>
        </p:nvSpPr>
        <p:spPr>
          <a:xfrm>
            <a:off x="1006200" y="376200"/>
            <a:ext cx="198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谢谢”的魅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700280"/>
            <a:ext cx="849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66ff"/>
                </a:solidFill>
                <a:latin typeface="黑体"/>
                <a:ea typeface="黑体"/>
              </a:rPr>
              <a:t>　　我们参加社交活动，要注意以下一些问题。一是容貌清洁。男生头发要短而清洁，不留胡须，修剪好指甲。女生头发要梳理有型、洁净美观，不能披头散发；青春是自然的美，无需化妆，如果化妆也要自然淡雅。二是服装整洁、美观、大方。要符合民族习惯，不穿奇装异服；要与年龄、性格、气质相协调，适合社交场合。参加文艺晚会等演出活动，衣着可以适当鲜艳些；参加重要集会，则要深沉庄重些。三是举止规范。在社交活动场所，我们举手投足、站立行走、与人交谈等，都要注意行为美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06200" y="376200"/>
            <a:ext cx="198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谢谢”的魅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12682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        ○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根据文明礼貌的要求，反思一下自己在与人交往中的行为举止，有哪些值得肯定的地方，有哪些需要改进的地方，并提出改进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00" y="3141720"/>
          <a:ext cx="8497440" cy="2247840"/>
        </p:xfrm>
        <a:graphic>
          <a:graphicData uri="http://schemas.openxmlformats.org/drawingml/2006/table">
            <a:tbl>
              <a:tblPr/>
              <a:tblGrid>
                <a:gridCol w="4248720"/>
                <a:gridCol w="4248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我的语言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改进方法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我的态度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改进方法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我的衣着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改进方法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我的动作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改进方法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06200" y="376200"/>
            <a:ext cx="198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谢谢”的魅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720" y="2060640"/>
            <a:ext cx="8496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    ☆</a:t>
            </a:r>
            <a:r>
              <a:rPr b="0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文明礼貌的掌握不是自然形成的，需要在社会生活中不断地学习、观察和思考。只要我们经常反思，注意日积月累，就一定能够成为语言文明、态度亲和、举止端庄的有礼貌的公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304040" y="2602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启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0"/>
            <a:ext cx="304812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ff00"/>
                </a:solidFill>
                <a:latin typeface="华文行楷"/>
                <a:ea typeface="华文行楷"/>
              </a:rPr>
              <a:t>掌握观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3837960" y="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礼貌的主要表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28600" y="1066680"/>
          <a:ext cx="8610480" cy="5486040"/>
        </p:xfrm>
        <a:graphic>
          <a:graphicData uri="http://schemas.openxmlformats.org/drawingml/2006/table">
            <a:tbl>
              <a:tblPr/>
              <a:tblGrid>
                <a:gridCol w="1143000"/>
                <a:gridCol w="3733920"/>
                <a:gridCol w="3733560"/>
              </a:tblGrid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99"/>
                          </a:solidFill>
                          <a:latin typeface="Arial"/>
                          <a:ea typeface="华文中宋"/>
                        </a:rPr>
                        <a:t>表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要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好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304920" y="2209680"/>
            <a:ext cx="99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语言文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4" action="ppaction://hlinksldjump"/>
          </p:cNvPr>
          <p:cNvSpPr/>
          <p:nvPr/>
        </p:nvSpPr>
        <p:spPr>
          <a:xfrm>
            <a:off x="304920" y="39625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态度亲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5" action="ppaction://hlinksldjump"/>
          </p:cNvPr>
          <p:cNvSpPr/>
          <p:nvPr/>
        </p:nvSpPr>
        <p:spPr>
          <a:xfrm>
            <a:off x="228600" y="5486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举止端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16765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说话和气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谈吐文雅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交谈要谦逊、尊重对方，多用商量的口吻说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1905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使交往和谐，为人际关系增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38862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态度真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待人和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8360" y="386064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增添交往的魅力，拉近彼此的距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551664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注意举止规范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是进行社会交往的基本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54864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反映我们高雅的气质，道德素质和文明程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78280" y="1828800"/>
            <a:ext cx="11552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礼 貌 显 魅 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1905120"/>
            <a:ext cx="287280" cy="3147840"/>
          </a:xfrm>
          <a:custGeom>
            <a:avLst/>
            <a:gdLst>
              <a:gd name="textAreaLeft" fmla="*/ 183600 w 287280"/>
              <a:gd name="textAreaRight" fmla="*/ 287640 w 287280"/>
              <a:gd name="textAreaTop" fmla="*/ 82080 h 3147840"/>
              <a:gd name="textAreaBottom" fmla="*/ 3065760 h 314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1447920"/>
            <a:ext cx="236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礼貌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尊 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1523880"/>
            <a:ext cx="136440" cy="746280"/>
          </a:xfrm>
          <a:custGeom>
            <a:avLst/>
            <a:gdLst>
              <a:gd name="textAreaLeft" fmla="*/ 87120 w 136440"/>
              <a:gd name="textAreaRight" fmla="*/ 136800 w 136440"/>
              <a:gd name="textAreaTop" fmla="*/ 19440 h 746280"/>
              <a:gd name="textAreaBottom" fmla="*/ 726840 h 74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1295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、礼貌的含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4419720"/>
            <a:ext cx="1295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谢谢的魅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809880"/>
            <a:ext cx="216000" cy="1729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572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语言文明的要求及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51055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态度亲和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56386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举止端庄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19051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、在交往中礼貌的重要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3429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、对人礼貌的主要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22860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[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小结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0384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、与人友好交往必备的素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对人有礼貌的具体做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0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当你面对他人批评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要委屈，要提醒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闻过则喜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当你和同学有矛盾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要伤心，要懂得矛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无所不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当有人对你不满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要生气，要自勉“走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己的路，让别人去说吧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当你做错事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要内疚，要记住“吃一堑，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智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当你对他人表现不满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要愤怒，要知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得饶人处且饶人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当你对新环境不适应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要焦虑，要相信“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最终能战胜环境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74880"/>
            <a:ext cx="6095880" cy="825120"/>
          </a:xfrm>
          <a:prstGeom prst="rect">
            <a:avLst/>
          </a:prstGeom>
          <a:solidFill>
            <a:srgbClr val="ffff00"/>
          </a:solidFill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一、礼貌是尊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礼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，是处理人与人之间关系的一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规范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是人们在日常交往中应当共同遵守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道德准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11240" y="2590920"/>
            <a:ext cx="4157640" cy="2211120"/>
            <a:chOff x="1011240" y="2590920"/>
            <a:chExt cx="4157640" cy="2211120"/>
          </a:xfrm>
        </p:grpSpPr>
        <p:sp>
          <p:nvSpPr>
            <p:cNvPr id="65" name="WordArt 6"/>
            <p:cNvSpPr txBox="1"/>
            <p:nvPr/>
          </p:nvSpPr>
          <p:spPr>
            <a:xfrm>
              <a:off x="1011240" y="2590920"/>
              <a:ext cx="28101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华文行楷"/>
                </a:rPr>
                <a:t>　你说我说</a:t>
              </a:r>
              <a:endParaRPr b="0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  <a:ea typeface="华文行楷"/>
              </a:endParaRPr>
            </a:p>
          </p:txBody>
        </p:sp>
        <p:sp>
          <p:nvSpPr>
            <p:cNvPr id="66" name="Text Box 7"/>
            <p:cNvSpPr/>
            <p:nvPr/>
          </p:nvSpPr>
          <p:spPr>
            <a:xfrm>
              <a:off x="1025640" y="3484440"/>
              <a:ext cx="414324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我们身边有礼的行为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我们身边无礼的行为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8"/>
          <p:cNvSpPr/>
          <p:nvPr/>
        </p:nvSpPr>
        <p:spPr>
          <a:xfrm>
            <a:off x="152280" y="5181480"/>
            <a:ext cx="96552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我们身边的有礼行为有什么好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无礼行为有什么害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ORN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ORN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380880"/>
            <a:ext cx="739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28600"/>
            <a:ext cx="6858000" cy="703440"/>
          </a:xfrm>
          <a:prstGeom prst="rect">
            <a:avLst/>
          </a:prstGeom>
          <a:solidFill>
            <a:srgbClr val="ffff00"/>
          </a:solidFill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在交往中礼貌的重要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219320"/>
            <a:ext cx="8382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礼貌是尊重的具体表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尊重自己的表现，反映我们自身的素质，展示我们的风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尊重他人的表现，包含着对他人的尊重、宽容、谦让、与人为善等良好的品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是友好交往的道德基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礼貌是文明的体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表明一个人是否具有道德修养，影响到人际关系的质量和社会风气的好坏，关系到国家和民族的尊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有了礼貌，就有了与人交往的亲和力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9072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、在公共场合随地乱吐痰，乱扔垃圾，不讲卫生，讲粗口话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、在公车上与他人争抢座位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、学生见到老师不问好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、给同学起外号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25640" y="1764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身边无礼的行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xin_43209021410503902113819"/>
          <p:cNvPicPr/>
          <p:nvPr/>
        </p:nvPicPr>
        <p:blipFill>
          <a:blip r:embed="rId1"/>
          <a:stretch/>
        </p:blipFill>
        <p:spPr>
          <a:xfrm>
            <a:off x="5124600" y="0"/>
            <a:ext cx="4019400" cy="4286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xin_4320902141050562693420"/>
          <p:cNvPicPr/>
          <p:nvPr/>
        </p:nvPicPr>
        <p:blipFill>
          <a:blip r:embed="rId2"/>
          <a:stretch/>
        </p:blipFill>
        <p:spPr>
          <a:xfrm>
            <a:off x="0" y="3571920"/>
            <a:ext cx="5105520" cy="3241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xin_4320902141050703694721"/>
          <p:cNvPicPr/>
          <p:nvPr/>
        </p:nvPicPr>
        <p:blipFill>
          <a:blip r:embed="rId3"/>
          <a:stretch/>
        </p:blipFill>
        <p:spPr>
          <a:xfrm>
            <a:off x="5029200" y="3716280"/>
            <a:ext cx="4114800" cy="3141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xin_43209021410502343127018"/>
          <p:cNvPicPr/>
          <p:nvPr/>
        </p:nvPicPr>
        <p:blipFill>
          <a:blip r:embed="rId4"/>
          <a:stretch/>
        </p:blipFill>
        <p:spPr>
          <a:xfrm>
            <a:off x="0" y="685800"/>
            <a:ext cx="5435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陆杰</dc:creator>
  <dc:description/>
  <dc:language>en-US</dc:language>
  <cp:lastModifiedBy>Windows 用户</cp:lastModifiedBy>
  <dcterms:modified xsi:type="dcterms:W3CDTF">2016-11-10T15:04:08Z</dcterms:modified>
  <cp:revision>19</cp:revision>
  <dc:subject/>
  <dc:title>14礼貌显魅力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